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4BE-1693-4A59-9A91-94B775E7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0E6-E3FD-49C8-9CB2-26BD342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0C9-402B-423D-BDDB-DB04459C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6B2-2321-4276-B37F-80B1BD05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5E3-99FD-4825-9864-F8272E4B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A2C-A6C3-482F-8386-19A1A226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964-459D-40C9-B183-04B67BB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979-FA55-45DE-8962-371270E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E1B-533B-4D7C-8ABB-DFC6A46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880-B374-4473-AD1D-F9C2380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AA2-EC28-4001-97A6-5D25F6B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02D-AC91-49BC-988A-DA6AFB7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F58-8E4F-4E43-9BCE-7A0ECC78F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sture in the Air and Forecasting Weather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a piece of notebook paper and number from 10 –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core bin when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15627" r="26564" b="52084"/>
          <a:stretch/>
        </p:blipFill>
        <p:spPr>
          <a:xfrm>
            <a:off x="76320" y="609480"/>
            <a:ext cx="9067680" cy="299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344120"/>
            <a:ext cx="8686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To predict areas of possible storm development, select a tool you would us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gather the necessa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ew poin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Visible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nfrared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14584" r="25782" b="52084"/>
          <a:stretch/>
        </p:blipFill>
        <p:spPr>
          <a:xfrm>
            <a:off x="0" y="609480"/>
            <a:ext cx="9144000" cy="307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41920"/>
            <a:ext cx="88390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You and your friends are going to an outdoor sporting event in 3 days and wa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know what the weather will be like on that day.  Which tool or method would yo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emperatur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mput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rend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5627" r="25782" b="51046"/>
          <a:stretch/>
        </p:blipFill>
        <p:spPr>
          <a:xfrm>
            <a:off x="-152280" y="838080"/>
            <a:ext cx="9296280" cy="313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37320" y="4344120"/>
            <a:ext cx="9253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Which is the best map to collect data for determining areas of fog and/or s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ef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ent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R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304920" y="304920"/>
            <a:ext cx="861048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3963240"/>
            <a:ext cx="8915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Observe the changes in temperature for the entire country.  Select a state or tw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states together where you would expect that a front is occ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Maine and 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Kansas and Nebr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evada and Califor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45720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200" y="4039560"/>
            <a:ext cx="6016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Given the variables above, predict the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torms are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emperatures will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 change is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228600" y="685800"/>
            <a:ext cx="8763120" cy="307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127440" y="4572720"/>
            <a:ext cx="656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Select the data provided when using the map ab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ater vapor in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lou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Observation of conditions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304920"/>
            <a:ext cx="8763120" cy="298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115520"/>
            <a:ext cx="8534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he relative humidity in cube “B”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w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igh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he same as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2480" y="4344120"/>
            <a:ext cx="8072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Cube “A” is 15° warmer than cube “B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Which cube shows air with lower relative humidity than the other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ub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34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76320" y="457200"/>
            <a:ext cx="8915400" cy="303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8440" y="4496400"/>
            <a:ext cx="7397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hich image shows conditions for higher humi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mag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Imag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3906" t="20835" r="25003" b="47920"/>
          <a:stretch/>
        </p:blipFill>
        <p:spPr>
          <a:xfrm>
            <a:off x="1371600" y="0"/>
            <a:ext cx="69343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4688" t="23960" r="25003" b="46877"/>
          <a:stretch/>
        </p:blipFill>
        <p:spPr>
          <a:xfrm>
            <a:off x="1447920" y="2286000"/>
            <a:ext cx="685800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029560"/>
            <a:ext cx="71344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hat is the highest relative humidity for the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9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79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8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127" t="20835" r="24220" b="48964"/>
          <a:stretch/>
        </p:blipFill>
        <p:spPr>
          <a:xfrm>
            <a:off x="838080" y="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344" t="25004" r="25003" b="46877"/>
          <a:stretch/>
        </p:blipFill>
        <p:spPr>
          <a:xfrm>
            <a:off x="762120" y="2209680"/>
            <a:ext cx="708660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87764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At what time did the high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7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8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9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0" y="53352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74600" y="4572720"/>
            <a:ext cx="962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Select the letter on the illustration that shows water droplets falling from the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362320"/>
            <a:ext cx="70106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982400"/>
            <a:ext cx="754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At what time did the low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2:00 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2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4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43480" y="4649040"/>
            <a:ext cx="71330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Choose the most correct statement based upon your data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s relative humidity decreases, temperature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s temperature increases, relative humidity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s relative humidity increase, temperatur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s temperature increases, relative humidity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22860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590920"/>
            <a:ext cx="7010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2:16:50Z</dcterms:created>
  <dc:creator>skrial</dc:creator>
  <dc:description/>
  <dc:language>en-US</dc:language>
  <cp:lastModifiedBy>skrial</cp:lastModifiedBy>
  <dcterms:modified xsi:type="dcterms:W3CDTF">2010-01-12T14:31:11Z</dcterms:modified>
  <cp:revision>2</cp:revision>
  <dc:subject/>
  <dc:title>Moisture in the Air and Forecasting Weather Quizzes</dc:title>
</cp:coreProperties>
</file>